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4AB-7BAD-4012-B31B-CF893448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3C1-BED1-43AB-A199-69C5AEF1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A24-191C-4689-B0FD-A3E3A6A2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71F-F044-41F9-937B-932D6D77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A56-2B8E-4F5A-97D3-2916D39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B46-6E99-42D5-813E-E4B0B85D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AAA-0414-467E-9475-D8D3EBD4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B63-5213-4E53-9C60-D984FA90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042-18B5-423E-A295-653E416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7B5-13DB-4FC3-8625-7B5A96F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C46-E2A0-4FC3-B60A-138141E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9B-980B-4DD5-9FCF-2B2F163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0EAD-F55F-4DBF-BF8A-AB8D80A9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85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352680"/>
            <a:ext cx="1295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85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680" y="2849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09280" y="2854440"/>
            <a:ext cx="70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 = 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46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9640" y="285444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3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tablets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7644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85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352680"/>
            <a:ext cx="1295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85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Desi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is the des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ordered amount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600" y="2849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85444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2057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3519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733920" y="3429000"/>
            <a:ext cx="685800" cy="144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849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Tabl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2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352680"/>
            <a:ext cx="27432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352680"/>
            <a:ext cx="27432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34000" y="2439000"/>
            <a:ext cx="114300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196704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352680"/>
            <a:ext cx="13716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0760" y="3429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4008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3352680"/>
            <a:ext cx="838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008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4008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352680"/>
            <a:ext cx="838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4008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752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79800" y="28544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8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Ha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do you 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amount on hand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es the dosage need to be conve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: The labels MUST mat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819520"/>
            <a:ext cx="685800" cy="685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962520"/>
            <a:ext cx="685800" cy="685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505320"/>
            <a:ext cx="533520" cy="533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onverting Between th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= g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etric System and the Apotheca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60 mg = 1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60 mg = 1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2: What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 mg = gr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second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3: Are the labels in the sam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x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¼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Changing the order of th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ill yield th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60   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2608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876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70360" y="4226040"/>
            <a:ext cx="36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0960" y="47181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5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n’t forget to LABEL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60   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608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5876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70360" y="4226040"/>
            <a:ext cx="36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10960" y="47181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15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 you have the RIGHT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724280"/>
            <a:ext cx="609480" cy="5414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2514600"/>
            <a:ext cx="685800" cy="609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05160" y="3048120"/>
            <a:ext cx="609480" cy="1676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at th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now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gr ¼ = 15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convert this ord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Veh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How is the dosage meas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quantity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Now use 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32380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699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352680"/>
            <a:ext cx="13716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699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3700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16240" y="285444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= 1.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700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352680"/>
            <a:ext cx="10670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member: The metric system uses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854440"/>
            <a:ext cx="51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.5       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 and 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285444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.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to the origin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rd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5 mg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0 mg / 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5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ou can also use the Propor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1960" y="16714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7440" y="3473280"/>
            <a:ext cx="112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5240" y="25588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352680"/>
            <a:ext cx="1295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Have (Label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rphine Sulfate 10 mg / 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2: What do you Desire (Ord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rphine Sulfate 15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second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 mg : 1 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3: Are the labels in the sam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15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x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Changing the order of th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ill yield th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= 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1960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6824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63880" y="422604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2200" y="4718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n’t forget to LABEL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976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= 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1960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6824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63880" y="422604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4718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 you have the RIGHT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2514600"/>
            <a:ext cx="685800" cy="609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724280"/>
            <a:ext cx="685800" cy="6098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562360" y="3124080"/>
            <a:ext cx="106668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4976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to the origin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rd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5 mg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0 mg / 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5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is dose using the D/H * V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4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is dose using the Propor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4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esired over Have times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–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or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et up a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8150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It’s really YOUR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tablets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47644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5:02:16Z</dcterms:created>
  <dc:creator>Janet Terra</dc:creator>
  <dc:description/>
  <dc:language>en-US</dc:language>
  <cp:lastModifiedBy> </cp:lastModifiedBy>
  <dcterms:modified xsi:type="dcterms:W3CDTF">2010-01-04T17:59:57Z</dcterms:modified>
  <cp:revision>19</cp:revision>
  <dc:subject/>
  <dc:title>Slide 1</dc:title>
</cp:coreProperties>
</file>